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7.wmf" ContentType="image/x-wmf"/>
  <Override PartName="/ppt/media/GLASS.WAV" ContentType="audio/x-wav"/>
  <Override PartName="/ppt/media/RICOCHET.WAV" ContentType="audio/x-wav"/>
  <Override PartName="/ppt/media/image11.jpeg" ContentType="image/jpeg"/>
  <Override PartName="/ppt/media/EXPLODE.WAV" ContentType="audio/x-wav"/>
  <Override PartName="/ppt/media/image9.png" ContentType="image/png"/>
  <Override PartName="/ppt/media/CHIMES.WAV" ContentType="audio/x-wav"/>
  <Override PartName="/ppt/media/image1.wmf" ContentType="image/x-wmf"/>
  <Override PartName="/ppt/media/CARBRAKE.WAV" ContentType="audio/x-wav"/>
  <Override PartName="/ppt/media/WHOOSH.WAV" ContentType="audio/x-wav"/>
  <Override PartName="/ppt/media/image3.png" ContentType="image/png"/>
  <Override PartName="/ppt/media/DRIVEBY.WAV" ContentType="audio/x-wav"/>
  <Override PartName="/ppt/media/CLAP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EAC-FF82-4DB7-B2E2-17B51256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3FA-EA05-4030-99C0-3072FAB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3D2-DF85-42FB-A365-F5D20FC1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293-4BDA-495D-8042-0277D36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C3E4-42CA-4F2E-B923-C7EF47B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415-B69D-4D29-AC66-726F2E18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EED-5FB2-4A24-9271-550A3DA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483A-2423-484E-99F5-A45EDEE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A3DD-AAE2-4477-A6B0-B16FBF7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F8F-692A-4F02-AC63-F5F92CC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11C8-ED37-4BB8-8591-51C10F0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8DF-CB6F-4C8B-8234-04510AF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2A02-4EEA-4D1A-BED6-75266FE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7BC1-AB89-49E7-8979-4DD870F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135-412F-48FB-887A-D6587A94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66C6-2900-4FF4-98C2-FEA43C19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CDD2-F3AB-4230-9C0C-C6202B17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607-72F2-4931-A274-48A6B63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801-5853-40B4-87B8-3BEDC73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4CE-52D2-435F-ADB2-568BCD5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D95-9C2B-41B5-AB6E-83CF3430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EA7-1B3D-453C-8BF6-CF765AD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310-BEA6-4839-A865-FAFCB8F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92F-FA50-483A-8B7B-C84AC3E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DBDB-3699-4673-B1AA-1C50971A3A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B5EB-4401-461D-B9B0-B2CD108E8F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clipart.com/en/close-up?o=3908273&amp;a=a&amp;q=crash&amp;k_mode=all&amp;s=37&amp;e=48&amp;show=&amp;c=&amp;cid=&amp;findincat=&amp;g=&amp;cc=21:442:172:230:29&amp;page=4&amp;k_exc=&amp;pubid=&amp;color=&amp;b=k&amp;date=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880" y="380880"/>
            <a:ext cx="83822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mentum and Colli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458200" cy="63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nela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billiards, Newton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skateboarder jumps 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dle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ateboar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objects bounce of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objects stick toge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collis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after coll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no E lost to heat or sou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involves a loss of K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does not cause damage              -causes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FORMULA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FORMU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[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[(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1229040" y="3105720"/>
            <a:ext cx="667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YPES OF COLLIS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in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380880"/>
            <a:ext cx="8077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A baseball with a mass of 0.14 kg moves at 35 m/s.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d “p”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d the v at which the baseball and a bowling ball with a mass of 7.26 kg would have the same “p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) m = 0.14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 = 3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) m = 7.2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 = ?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743200"/>
            <a:ext cx="4952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(0.14)(35)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4.9 kg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95288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9 = 7.26 v      =  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0.67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458200" cy="78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B 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Glider A with a mass of 0.355 kg and a v of 0.095 m/s collides with Glider B of mass 0.710 kg moving in the same direction at 0.045 m/s.  After colliding, Glider A continues in the same direction with a v of 0.035 m/s.  What is Glider B’s v?  (is this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0.355 k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9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710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4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035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581280"/>
            <a:ext cx="54864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ELASTIC, so u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.355)(.095) +(.710)(.045) = (.355)(.035) +(.710)(v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7200"/>
            <a:ext cx="8229600" cy="65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blem 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A skateboard with mass 0.75 kg and a v of 1.0 m/s is jumped on by a person of mass 63.00 kg running at 2.0 m/s.  What is the v of the person on the skateboard after the “collision”? (Is this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ELASTI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0.75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.0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63.00 k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.0 m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3200400"/>
            <a:ext cx="55627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INELASTIC, so u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[(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.75)(1.0) +(63.00)(2.0) = (.75+63.00)(v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04920"/>
            <a:ext cx="8610480" cy="74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ummary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ymbol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Unit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ormu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g</a:t>
            </a:r>
            <a:r>
              <a:rPr b="1" lang="en-US" sz="3200" spc="-1" strike="noStrike" baseline="22000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/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m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ul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g</a:t>
            </a:r>
            <a:r>
              <a:rPr b="1" lang="en-US" sz="4000" spc="-1" strike="noStrike" baseline="20000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/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Other Formulas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astic colli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elastic colli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+ 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[(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+m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ndidate’s campaign lost a lot of MOMENTUM when his political partner was impeach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those 5-in-a-row winning blackjack hands, Lefty Loosie really had MOMENT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though the receiver snapped a hamstring at the 3 yard line, his MOMENTUM carried him into the endzone for a touchd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day the stock markets gained MOMENTUM when Microsoft and IBM forecasted large earn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457200"/>
            <a:ext cx="6705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Big M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3311640"/>
            <a:ext cx="3809880" cy="1454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omentu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t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loc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: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: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m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ts: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g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/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w of Conservation of 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ost =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a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tal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 a system remains the same if no external forces act on the syste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mentum is therefore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conserv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ergy and Moment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igher the roller coaster the more the PE, so the greater the KE that is po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mpulse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duct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: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I 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ts: 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g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nge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sults in a smaller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733920" y="838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mpuls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ications of Momentum &amp; Impul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249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he longer you contact a ball when you’re catching it, the less the impact hu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mpulse = F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he greater the mass  of parts that fly off in a collision the safer the occup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4495680"/>
            <a:ext cx="2214360" cy="2362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463068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irbags work because they increase your contact time with a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veryday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give a hammer momentum by swinging it hard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mmers have to be relatively heavy to get the job done (ie: can get more momentum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5720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mentum &amp; Colli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4647960" cy="426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1143000"/>
            <a:ext cx="701064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828800"/>
            <a:ext cx="38098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a car wreck, each car part that flies off carries with i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omentu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 Each piece ha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veloc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the total momentum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collision must equal the total momentum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collis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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1:21:54Z</dcterms:created>
  <dc:creator>GCPS</dc:creator>
  <dc:description/>
  <dc:language>en-US</dc:language>
  <cp:lastModifiedBy>andreskim</cp:lastModifiedBy>
  <cp:lastPrinted>2001-11-29T11:58:42Z</cp:lastPrinted>
  <dcterms:modified xsi:type="dcterms:W3CDTF">2005-12-02T21:49:15Z</dcterms:modified>
  <cp:revision>79</cp:revision>
  <dc:subject/>
  <dc:title>Momentum And Collision</dc:title>
</cp:coreProperties>
</file>